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72302-C5AB-4696-B477-2A939885A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C3BF1-379B-43DE-9342-399D055F7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E2304-18D5-42C7-BC82-E11B14CA7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B540B-2474-43C1-B0CE-4E4A39BDC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677B4-AACD-4CC9-A965-028E098C8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7A2E1-1212-40DC-AFC7-A3B1DB32B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D7B07-BDD3-44B5-B985-DC47F8062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14690-FA9D-443D-AF03-42D2135BB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027ED-3945-4AE5-94C6-1E513F3BB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17B1E-CEB3-4274-949C-5D39385BD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8C636-7ED0-4396-85CB-7F10669D3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6EA5D-FCCE-4A26-9717-BE96F619C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C22BB-5265-41D4-B08D-1C522F7B2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251D3-9418-4D74-8B46-FCFB8AA07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48511-F162-4A69-908E-D54E115EA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D3534-DD00-489B-8522-D4A7B340F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8FCDA-0DB0-42EC-9149-4BA58A478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A7BB0-98DD-4EF5-B52D-DE6ADFF46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876B5-0454-4070-AD33-01BF2DEFB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235C4-1267-4C0E-A106-AD997D4EC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B15B7-AD4F-44EF-A4EA-D35AA0FE6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DC9D7-DFB0-494E-956C-B14508F36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4B0EC-E6E5-4D39-B726-716B6591C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2F132-F9A9-49A0-A0E7-47CFDE870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1" name="Rectangle 3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450DE-AEC0-492C-AD2F-A3FB703AA22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46" name="Rectangle 3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Line 5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908AA-AD8E-42BE-897A-911F125C8B0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authentichistory.com/1865-1897/progressive/riis/157.html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Call to Order: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09480" y="1447920"/>
            <a:ext cx="7772400" cy="111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ffff"/>
                </a:solidFill>
                <a:latin typeface="Arial"/>
              </a:rPr>
              <a:t>What does the word “progress” mean?  Create a diagram in your notebook that looks like the one below, and fill in the boxes regarding the word “progress”.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Picture 3" descr=""/>
          <p:cNvPicPr/>
          <p:nvPr/>
        </p:nvPicPr>
        <p:blipFill>
          <a:blip r:embed="rId1"/>
          <a:stretch/>
        </p:blipFill>
        <p:spPr>
          <a:xfrm>
            <a:off x="1981080" y="3505320"/>
            <a:ext cx="4876920" cy="27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. Societal Ill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160" y="1828800"/>
            <a:ext cx="4002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. Conditions in Slu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666699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No indoor plumbing so waste ended up in the streets, spreading disease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666699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12-16 families living in one house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666699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Lack of fire protection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Picture 7" descr="riiscitytenement"/>
          <p:cNvPicPr/>
          <p:nvPr/>
        </p:nvPicPr>
        <p:blipFill>
          <a:blip r:embed="rId1"/>
          <a:stretch/>
        </p:blipFill>
        <p:spPr>
          <a:xfrm>
            <a:off x="4578480" y="1974960"/>
            <a:ext cx="4114800" cy="35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. Societal Ills continue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684320" y="1828800"/>
            <a:ext cx="4002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B. Conditions in Workplace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831240" indent="-443160">
              <a:spcBef>
                <a:spcPts val="601"/>
              </a:spcBef>
              <a:buClr>
                <a:srgbClr val="666699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arp blades threatened meatpack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31240" indent="-443160">
              <a:spcBef>
                <a:spcPts val="601"/>
              </a:spcBef>
              <a:buClr>
                <a:srgbClr val="666699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tton dust plagues textile work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31240" indent="-443160">
              <a:spcBef>
                <a:spcPts val="601"/>
              </a:spcBef>
              <a:buClr>
                <a:srgbClr val="666699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re was a ris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31240" indent="-443160">
              <a:spcBef>
                <a:spcPts val="601"/>
              </a:spcBef>
              <a:buClr>
                <a:srgbClr val="666699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ild laborers were as young as 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Picture 15" descr="&quot;Didn't live nowhere&quot;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28600" y="1828800"/>
            <a:ext cx="33750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. Societal Ills Continue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33160" y="1828800"/>
            <a:ext cx="4002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. Unsafe Produ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514440">
              <a:spcBef>
                <a:spcPts val="550"/>
              </a:spcBef>
              <a:buClr>
                <a:srgbClr val="666699"/>
              </a:buClr>
              <a:buSzPct val="6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ings found in meat included rat droppings, rats, borax, formaldehyd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514440">
              <a:spcBef>
                <a:spcPts val="550"/>
              </a:spcBef>
              <a:buClr>
                <a:srgbClr val="666699"/>
              </a:buClr>
              <a:buSzPct val="6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Medicine consisted of narcotics, morphine, opium, cocain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Picture 8" descr="1909"/>
          <p:cNvPicPr/>
          <p:nvPr/>
        </p:nvPicPr>
        <p:blipFill>
          <a:blip r:embed="rId1"/>
          <a:stretch/>
        </p:blipFill>
        <p:spPr>
          <a:xfrm>
            <a:off x="4572000" y="1676520"/>
            <a:ext cx="4000680" cy="41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I. Progressivism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520" y="1828440"/>
            <a:ext cx="815328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. The idea that the government was responsible for improving society by promoting social welfare, protecting the environment, and making government more efficient and democrat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. Muckrakers were journalists who were part of the progressive movement and uncovered the ills meant to be cured by the govern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22960" indent="-462960">
              <a:spcBef>
                <a:spcPts val="575"/>
              </a:spcBef>
              <a:buClr>
                <a:srgbClr val="666699"/>
              </a:buClr>
              <a:buSzPct val="6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Jacob Riis – photographer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822960" indent="-462960">
              <a:spcBef>
                <a:spcPts val="575"/>
              </a:spcBef>
              <a:buClr>
                <a:srgbClr val="666699"/>
              </a:buClr>
              <a:buSzPct val="6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Upton Sinclair – wrote </a:t>
            </a:r>
            <a:r>
              <a:rPr b="0" i="1" lang="en-US" sz="2300" spc="-1" strike="noStrike">
                <a:solidFill>
                  <a:srgbClr val="ffffff"/>
                </a:solidFill>
                <a:latin typeface="Arial"/>
              </a:rPr>
              <a:t>The Jungle, </a:t>
            </a: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about the meatpacking industry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o are muckrakers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160" y="1828800"/>
            <a:ext cx="4002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Group of journalists within the Progressive Movement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They uncovered the nation’s problems and wrote about them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raked the mud of society”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eodoreRoosevel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684320" y="1828800"/>
            <a:ext cx="4002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Picture 7" descr="riis"/>
          <p:cNvPicPr/>
          <p:nvPr/>
        </p:nvPicPr>
        <p:blipFill>
          <a:blip r:embed="rId1"/>
          <a:stretch/>
        </p:blipFill>
        <p:spPr>
          <a:xfrm>
            <a:off x="5105520" y="1828800"/>
            <a:ext cx="31953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uckrakers Respond to City Problem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160" y="1828800"/>
            <a:ext cx="4002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Sought to expose city life problems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Conditions in Slums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uckrakers blamed city governments for failing to provide adequate roads, sewage and power systems, and transportatio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acob Riis writes a book to expose “How the Other Half Lives” including disturbing photograph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684320" y="1828800"/>
            <a:ext cx="4002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Picture 15" descr="riis3"/>
          <p:cNvPicPr/>
          <p:nvPr/>
        </p:nvPicPr>
        <p:blipFill>
          <a:blip r:embed="rId1"/>
          <a:stretch/>
        </p:blipFill>
        <p:spPr>
          <a:xfrm>
            <a:off x="4648320" y="1828800"/>
            <a:ext cx="40399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Response to Problems in the Workplac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3160" y="1828800"/>
            <a:ext cx="4002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684320" y="1828800"/>
            <a:ext cx="4002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Muckrakers exposed terrible working condition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Initiative: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when everyday American citizens tried to address the problems in the United States by proposing laws &amp; chang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A push for laws where children were required to go to school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Picture 8" descr="usariis11"/>
          <p:cNvPicPr/>
          <p:nvPr/>
        </p:nvPicPr>
        <p:blipFill>
          <a:blip r:embed="rId1"/>
          <a:stretch/>
        </p:blipFill>
        <p:spPr>
          <a:xfrm>
            <a:off x="762120" y="1828800"/>
            <a:ext cx="373212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Response to Unsafe Produc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3160" y="1828800"/>
            <a:ext cx="4002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In 1906, Upton Sinclar wrote The Jungle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nsanitary conditions in meatpacking pla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Muckrakers protested that big businesses were growing richer, while small businesses and the poor struggled even harder to survive.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684320" y="1828800"/>
            <a:ext cx="4002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Picture 9" descr="45"/>
          <p:cNvPicPr/>
          <p:nvPr/>
        </p:nvPicPr>
        <p:blipFill>
          <a:blip r:embed="rId1"/>
          <a:stretch/>
        </p:blipFill>
        <p:spPr>
          <a:xfrm>
            <a:off x="5181480" y="1828800"/>
            <a:ext cx="273528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7T14:32:08Z</dcterms:created>
  <dc:creator>student</dc:creator>
  <dc:description/>
  <dc:language>en-US</dc:language>
  <cp:lastModifiedBy>Molly Zeins</cp:lastModifiedBy>
  <dcterms:modified xsi:type="dcterms:W3CDTF">2011-12-04T20:22:20Z</dcterms:modified>
  <cp:revision>5</cp:revision>
  <dc:subject/>
  <dc:title>Intro to the Progressive Era: Muckraking</dc:title>
</cp:coreProperties>
</file>